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D94E-B337-4522-9CB2-BADD3FC11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2725-8DD1-4F55-A678-3E9375E2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4EC0-9BF5-48F9-9999-42CC0A13B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8E2A-9B5B-4376-B67F-B5C7D5832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1510-4BA3-493C-AA9A-CF2E10476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40D9-B3E9-4DE8-9968-148335B3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7BDFA-9AC0-4143-A69D-D358D630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FE3C-E290-408D-B01B-2F979D09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C543-FD55-4E81-AC3E-9DBAEC8A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8B8F5-9D78-4CED-8364-CCCDB0FD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9688-7BDD-4E62-92B0-4F2C2142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81CC-E2A9-4488-BA4E-D68E5254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00E4-063E-4554-BAE5-0D2ABD8F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EB51-03A8-4F41-AFC2-4691AE27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1F288-F2AF-4668-BD86-93CCB236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7B74-0C77-4E57-AE9C-92B9E2FE1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54D2-D44D-4A35-8505-C957AF3DC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8EB3B-4184-4760-BE15-6DA40B6EA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E9C52-EBDE-4C30-9F8A-7747E236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16FE0-4B37-48D1-ADC9-737DCE41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AFD9A-AB17-4028-A88A-D52028F0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2371D-3F18-41BF-9AB7-17314134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13B6-3271-4D5E-8DF5-4024747E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24B2F-4514-4BC3-82A8-B6D57E02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90A4A-E3A7-48B1-968F-C4BE3702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42E7F-9E02-4AC4-83AE-0A525BE1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2FE7E-721F-41F5-AD1D-4880563C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31244-8BEB-42CC-8B2E-B07093DE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83580-858F-4C79-969A-602BB6A4E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DE6D3-9A1B-4E6C-914E-3995C5760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38515-96C2-41C4-9783-522F35BE7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009AC-31B4-46FD-8820-E0A8DB43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3D92D-9881-4235-8E8F-42400126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5962-4ADF-42AC-8304-172CF7F2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A304D-8529-4DA4-AA8C-D1595685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695D9-2615-4379-8086-B139C61D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35BB4-CF5B-4A0B-925E-720D0131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DDF54-6761-4ABC-AD14-FAFD48AE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446E9-0151-40AC-9693-C4EF2F5C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FB6AA-5C6A-4FA0-96FA-E80E0150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1C6A0-2C7A-4534-9470-F81484C8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2DE09-6DE6-43C1-9B3D-4EC4CD22A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A1BED-CD19-4AE1-A87B-0636D00D9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E5EA8-1E98-4AA1-95B3-BCD3DD806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3DD9-8D04-4AC2-ABD0-0EDF4FAD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32166-2D3B-4436-8A52-0A8A2835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8F098-4DED-463E-93D8-26207A38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C9460-5C13-47CF-9A78-BAADB739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50B72-D552-44DA-9B10-657E70E2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5B3A9-BC82-42C7-A28A-FE08186C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6EECC-84F7-4B53-B8AA-AEF13208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3C115-3FFE-4CF3-90C8-F5D8F4B1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63D03-8DF2-4E92-B753-044A65DF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7C362-20DF-4716-8A23-F52A94E5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AC69B-C743-44C4-8685-3EE562328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AA22-8F47-4A20-AA4C-B33D9584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AB3C9-F329-438F-8067-45AF11B6D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371F-22CE-4B55-8524-7C844D5D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2195-49D8-411F-96FA-B6359117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6642-BF97-455E-921A-8DBBC1E7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6CB7-5CEE-4A24-8FCC-4523FAF8AEB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7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51" name="Rounded Rectangle 10" descr=""/>
            <p:cNvPicPr/>
            <p:nvPr/>
          </p:nvPicPr>
          <p:blipFill>
            <a:blip r:embed="rId4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F59F-74C0-41A9-A59F-A112E1D442CE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6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00" name="Rounded Rectangle 10" descr=""/>
            <p:cNvPicPr/>
            <p:nvPr/>
          </p:nvPicPr>
          <p:blipFill>
            <a:blip r:embed="rId4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AB09-7D05-43BC-9C1C-4AB4DCDE6D9E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45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C4F4-4DE3-4317-AF5F-06258D58D88C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91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3006-1B77-4BC1-A300-5ABDC65BC260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10" descr="C:\Users\INGTERNET\AppData\Local\Microsoft\Windows\Temporary Internet Files\Content.IE5\BYBMW78C\MPj04389190000[1].jpg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7088040"/>
          </a:xfrm>
          <a:prstGeom prst="rect">
            <a:avLst/>
          </a:prstGeom>
          <a:ln w="0">
            <a:noFill/>
          </a:ln>
        </p:spPr>
      </p:pic>
      <p:sp>
        <p:nvSpPr>
          <p:cNvPr id="237" name="TextBox 14"/>
          <p:cNvSpPr/>
          <p:nvPr/>
        </p:nvSpPr>
        <p:spPr>
          <a:xfrm>
            <a:off x="0" y="2438280"/>
            <a:ext cx="876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60"/>
                </a:solidFill>
                <a:latin typeface="Viner Hand ITC"/>
              </a:rPr>
              <a:t>   </a:t>
            </a:r>
            <a:r>
              <a:rPr b="1" lang="en-US" sz="6000" spc="-1" strike="noStrike">
                <a:solidFill>
                  <a:srgbClr val="002060"/>
                </a:solidFill>
                <a:latin typeface="Viner Hand ITC"/>
              </a:rPr>
              <a:t>The Courage To Qu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5"/>
          <p:cNvSpPr/>
          <p:nvPr/>
        </p:nvSpPr>
        <p:spPr>
          <a:xfrm>
            <a:off x="1143000" y="4572000"/>
            <a:ext cx="60958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Bookman Old Style"/>
              </a:rPr>
              <a:t>Phone: (518)459-25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Bookman Old Style"/>
              </a:rPr>
              <a:t>E-mail: </a:t>
            </a:r>
            <a:r>
              <a:rPr b="1" lang="en-US" sz="2800" spc="-1" strike="noStrike" u="sng">
                <a:solidFill>
                  <a:srgbClr val="002060"/>
                </a:solidFill>
                <a:uFillTx/>
                <a:latin typeface="Bookman Old Style"/>
              </a:rPr>
              <a:t>dkeefe@setonhealth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Bookman Old Style"/>
              </a:rPr>
              <a:t>Website: www.quitsolutions.org</a:t>
            </a:r>
            <a:r>
              <a:rPr b="1" lang="en-US" sz="2400" spc="-1" strike="noStrike">
                <a:solidFill>
                  <a:srgbClr val="00206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1" descr="B&amp;W Ctr for SC Seton Health"/>
          <p:cNvPicPr/>
          <p:nvPr/>
        </p:nvPicPr>
        <p:blipFill>
          <a:blip r:embed="rId2"/>
          <a:stretch/>
        </p:blipFill>
        <p:spPr>
          <a:xfrm>
            <a:off x="0" y="0"/>
            <a:ext cx="3200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. Mary's Hospital</cp:lastModifiedBy>
  <dcterms:modified xsi:type="dcterms:W3CDTF">2010-06-18T15:20:57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