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9C7-A325-4AE8-AD2D-B7456D4E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AB5-32BB-4714-9F93-1DC5CED7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AB3-C911-411F-8C96-789103E5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B03-201F-4DCF-B0C7-EFC7D714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5E7-CDF5-42DC-9304-286A11C9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492-6056-46ED-9CBB-8616E5E1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31E-3D1E-40D2-88A6-062FF875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2A0-8131-444B-AD15-0178FA68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1F9-C118-44D2-BA23-B3E1EB0B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6D2-65C5-4145-B043-AA29A82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0BB-8FDA-4249-9862-B0AE8F3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BB6-776E-4F91-AE98-D47D745B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AF0-7D57-47EC-9B88-05DD7F17D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M122~Smoking-Smile-Face-Poster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2:07:18Z</dcterms:created>
  <dc:creator>danny.woodard</dc:creator>
  <dc:description/>
  <dc:language>en-US</dc:language>
  <cp:lastModifiedBy>St. Mary's Hospital</cp:lastModifiedBy>
  <dcterms:modified xsi:type="dcterms:W3CDTF">2010-08-31T18:32:55Z</dcterms:modified>
  <cp:revision>3</cp:revision>
  <dc:subject/>
  <dc:title>Slide 1</dc:title>
</cp:coreProperties>
</file>