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866-8AC2-450B-A13F-DEB4B243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47F-84A6-4690-893F-38BE17F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B3C-A870-4001-A70E-A375A809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55C-0AD3-4954-B6E2-9253AFDB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19E-F3FF-43D3-9AC9-064810ED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804-7C7D-498C-95FF-4819D21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0C6-CD06-4C26-ADAB-2D627E0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57C-3A2C-4A19-BDFE-E65E235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38D-D677-4BD7-AD29-1B4D8D2F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B4C-F99C-495D-B439-277F76D4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990-A210-47E3-9A95-40895EE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AB6-8BB7-466F-9B36-3B1C8A2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9C0-8F38-4127-9D03-164DE6CE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17_jpg"/>
          <p:cNvPicPr/>
          <p:nvPr/>
        </p:nvPicPr>
        <p:blipFill>
          <a:blip r:embed="rId1"/>
          <a:stretch/>
        </p:blipFill>
        <p:spPr>
          <a:xfrm>
            <a:off x="0" y="12600"/>
            <a:ext cx="6858000" cy="9118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066680" y="876312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2:46:14Z</dcterms:created>
  <dc:creator>danny.woodard</dc:creator>
  <dc:description/>
  <dc:language>en-US</dc:language>
  <cp:lastModifiedBy>St. Mary's Hospital</cp:lastModifiedBy>
  <dcterms:modified xsi:type="dcterms:W3CDTF">2010-08-31T18:33:02Z</dcterms:modified>
  <cp:revision>3</cp:revision>
  <dc:subject/>
  <dc:title>Slide 1</dc:title>
</cp:coreProperties>
</file>