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6610-D645-42FB-81DF-CE4159AB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3237-5F21-4B3D-AB3C-A7EE6114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F3C9-ED0A-457C-A334-86BFBD07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9CA-4BD4-4113-BA37-9DE7C956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BC7-2259-4D56-859E-76CF4E56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2297-95DD-406C-98F5-A22E5ACD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52F-9FE5-4F12-8215-00AD63DD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07C5-CCB0-4F92-8084-3BC2A106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188F-64B8-476D-B5CE-E9A0630A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BAD1-5734-44EB-9DD6-924B5DDF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73F-0F55-4E43-B185-8960D7BD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BA7B-BB7C-4AB4-8F28-05BCFC59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8E4E-8610-420E-BFD4-2A146CB1B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dkeefe@setonhealth.org" TargetMode="External"/><Relationship Id="rId3" Type="http://schemas.openxmlformats.org/officeDocument/2006/relationships/hyperlink" Target="http://www.quitsolutions.org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:\Users\INGTERNET\AppData\Local\Microsoft\Windows\Temporary Internet Files\Content.IE5\BYBMW78C\MPj04389190000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4"/>
          <p:cNvSpPr/>
          <p:nvPr/>
        </p:nvSpPr>
        <p:spPr>
          <a:xfrm>
            <a:off x="0" y="3657600"/>
            <a:ext cx="807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Viner Hand ITC"/>
              </a:rPr>
              <a:t>The Courage To Qu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5"/>
          <p:cNvSpPr/>
          <p:nvPr/>
        </p:nvSpPr>
        <p:spPr>
          <a:xfrm>
            <a:off x="1143000" y="4572000"/>
            <a:ext cx="548640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Bookman Old Style"/>
              </a:rPr>
              <a:t>Phone: (518)459-25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Bookman Old Style"/>
              </a:rPr>
              <a:t>E-mail: dkeefe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Bookman Old Style"/>
                <a:hlinkClick r:id="rId2"/>
              </a:rPr>
              <a:t>@setonhealth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Bookman Old Style"/>
              </a:rPr>
              <a:t>Websit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Bookman Old Style"/>
                <a:hlinkClick r:id="rId3"/>
              </a:rPr>
              <a:t>www.quitsolution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962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. Mary's Hospital</cp:lastModifiedBy>
  <dcterms:modified xsi:type="dcterms:W3CDTF">2009-10-28T13:04:1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