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741-8CFE-4112-B562-090C9C2D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C96-087C-4DE0-81FB-1CE3C25E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547-8A53-481E-AB6B-FC1F5FBD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47C-3CAC-406E-A048-EB449E6C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BC5-95DA-4B5C-AA6D-FAC52F31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6E5-0E4C-4C9C-9FDB-3F27D34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26-BAB0-433F-8611-A2EC9567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F00-87FD-4F72-ACD6-BFA32AD6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2C9-AB0E-49B7-8CA7-7E3A65D5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9B7-CAAB-4F6C-A74C-0490055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8C3-CB3C-4DE1-A057-28D98B0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606-41E1-49DC-A5EF-D16042C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2F5C-8C3A-49CE-9AAF-5921F7FDE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TextBox 14"/>
          <p:cNvGrpSpPr/>
          <p:nvPr/>
        </p:nvGrpSpPr>
        <p:grpSpPr>
          <a:xfrm>
            <a:off x="-6480" y="2889360"/>
            <a:ext cx="9156960" cy="4123440"/>
            <a:chOff x="-6480" y="2889360"/>
            <a:chExt cx="9156960" cy="4123440"/>
          </a:xfrm>
        </p:grpSpPr>
        <p:pic>
          <p:nvPicPr>
            <p:cNvPr id="43" name="TextBox 14" descr=""/>
            <p:cNvPicPr/>
            <p:nvPr/>
          </p:nvPicPr>
          <p:blipFill>
            <a:blip r:embed="rId2"/>
            <a:stretch/>
          </p:blipFill>
          <p:spPr>
            <a:xfrm>
              <a:off x="-6480" y="2889360"/>
              <a:ext cx="915696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2895480"/>
              <a:ext cx="91440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9999"/>
                  </a:solidFill>
                  <a:latin typeface="Viner Hand ITC"/>
                </a:rPr>
                <a:t>The Courage To Quit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Help &amp; Support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 To Quit Smoking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11" descr="B&amp;W Ctr for SC Seton Health"/>
          <p:cNvPicPr/>
          <p:nvPr/>
        </p:nvPicPr>
        <p:blipFill>
          <a:blip r:embed="rId3"/>
          <a:stretch/>
        </p:blipFill>
        <p:spPr>
          <a:xfrm>
            <a:off x="0" y="0"/>
            <a:ext cx="396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11-09-22T16:42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