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8CA-C524-4EDE-A572-43B9473B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B8B-242B-4336-9457-D86DB201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24B-793C-49AF-87AB-1F50773A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AE3-5F34-4F1F-8347-78BBF8BA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3BF-8E10-4C5A-B191-E841A04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BE3-BF4F-4DB1-8A12-871304AD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034-32BD-4C0E-93B6-66823AA7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5D4-4F3D-4D48-AD9C-EAE26EF9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412-80FD-4C4E-B6E7-B5E4CB0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B2F-23B4-4B4E-B53E-2A3A87A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66B-2D81-472B-902C-95C5D8F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716-C73D-46BF-96CC-317B9FB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E10-C956-481F-9580-64BBC860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keefe@setonhealth.org" TargetMode="External"/><Relationship Id="rId3" Type="http://schemas.openxmlformats.org/officeDocument/2006/relationships/hyperlink" Target="http://www.quitsolutions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INGTERNET\AppData\Local\Microsoft\Windows\Temporary Internet Files\Content.IE5\BYBMW78C\MPj0438919000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4"/>
          <p:cNvSpPr/>
          <p:nvPr/>
        </p:nvSpPr>
        <p:spPr>
          <a:xfrm>
            <a:off x="0" y="3657600"/>
            <a:ext cx="807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Viner Hand ITC"/>
              </a:rPr>
              <a:t>The Courage To Qu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1143000" y="4572000"/>
            <a:ext cx="54864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man Old Style"/>
              </a:rPr>
              <a:t>Phone: (518)459-2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man Old Style"/>
              </a:rPr>
              <a:t>E-mail: dkeef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@setonhealth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man Old Style"/>
              </a:rPr>
              <a:t>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www.quitsolution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96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. Mary's Hospital</cp:lastModifiedBy>
  <dcterms:modified xsi:type="dcterms:W3CDTF">2009-10-28T13:04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