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E58-7E3B-4283-911E-DC5FE3D7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12F-A685-46D8-9CBA-6E4C5412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7E-118E-4A5F-A1F4-2BC135C4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F50-2D44-477C-AEAD-DC73628B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9F3-193C-473A-8F61-2AF739AD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13A-CDCD-4B1E-B700-19141F4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640-862A-4550-9783-FD50047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200-6960-4084-9548-3C2309A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5FA-3705-455F-92E9-94CAC90B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B7A-8E41-412D-AD32-61201F1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DC8-8EFB-41CD-A62F-2C933413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72D-AB0E-49E7-8E2F-1554CB4D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2E6-6CEC-4671-A4A9-6DF97D67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TextBox 14"/>
          <p:cNvGrpSpPr/>
          <p:nvPr/>
        </p:nvGrpSpPr>
        <p:grpSpPr>
          <a:xfrm>
            <a:off x="-6480" y="2889360"/>
            <a:ext cx="9156960" cy="4123440"/>
            <a:chOff x="-6480" y="2889360"/>
            <a:chExt cx="9156960" cy="4123440"/>
          </a:xfrm>
        </p:grpSpPr>
        <p:pic>
          <p:nvPicPr>
            <p:cNvPr id="43" name="TextBox 14" descr=""/>
            <p:cNvPicPr/>
            <p:nvPr/>
          </p:nvPicPr>
          <p:blipFill>
            <a:blip r:embed="rId2"/>
            <a:stretch/>
          </p:blipFill>
          <p:spPr>
            <a:xfrm>
              <a:off x="-6480" y="2889360"/>
              <a:ext cx="915696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2895480"/>
              <a:ext cx="91440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9999"/>
                  </a:solidFill>
                  <a:latin typeface="Viner Hand ITC"/>
                </a:rPr>
                <a:t>The Courage To Quit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Help &amp; Support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	</a:t>
              </a:r>
              <a:r>
                <a:rPr b="1" lang="en-US" sz="6000" spc="-1" strike="noStrike">
                  <a:solidFill>
                    <a:srgbClr val="009999"/>
                  </a:solidFill>
                  <a:latin typeface="Book Antiqua"/>
                </a:rPr>
                <a:t> To Quit Smoking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11" descr="B&amp;W Ctr for SC Seton Health"/>
          <p:cNvPicPr/>
          <p:nvPr/>
        </p:nvPicPr>
        <p:blipFill>
          <a:blip r:embed="rId3"/>
          <a:stretch/>
        </p:blipFill>
        <p:spPr>
          <a:xfrm>
            <a:off x="0" y="0"/>
            <a:ext cx="396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11-09-22T16:42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