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7E8-7FAF-4176-9490-CFD7EB7F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BD0-C0CC-4A6E-8C66-0771DC84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8D8-48F1-4073-8B05-89A3A5B6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C17-B4E3-4217-A9A6-4EFFE45E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B3DA-2471-43D0-909E-F5E83DD8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EE6D-50D2-48EB-8EC9-70515C48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98C1-0AEB-46DD-A0F6-8A1EEF71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8EF0-6BBD-4071-B594-3B7A7C71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99D4-7A4B-415B-88C2-8FE1C116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1BDF-B2E5-4AC7-81C6-B88D6753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358A-523D-4E62-B73C-3C3AACDA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E05-EF5E-473D-BFC2-3C651EB8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BFA3-9A12-4B37-8A96-333694BB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78AF-D1CF-4A0B-8A4C-FFD29811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DEDD-3A0E-4A6A-91F1-51E7E5BE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2F74-5612-41DD-AEFC-0EC79E58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EB67-FCBA-4633-8A3A-A27431D2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96F8-6AFF-4DC1-A76A-968C98D6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05ED-DD90-458C-B929-A070878A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B8EF-E145-45E9-9512-6317A4E3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368A3-2A1B-459B-A7E4-6B9FFBA8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7BC2-4A6E-4D06-A4B4-4B336F22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8CE-937F-4951-9E59-CDE5F6E8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A04CF-D629-48E1-99DF-3704C0AE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3A3D4-F6AF-4BAA-9C6E-B193814C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3391E-AA56-45FD-8D57-11A6DCC5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7D29-EA2D-47A9-AB39-4D3091C1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49BA-5152-4BFA-8471-1348BF61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8B1E-2F59-4901-AC33-7FD43338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DEAF8-E7EC-43BD-A3CC-F67623EC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4C5F9-5E37-4A4E-8CF7-80C3E14E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4CB86-CAF6-4909-84D7-9F0170DF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5F607-E62E-476A-BE7C-38FDBD64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331-85EB-4E65-AC9A-549CD4CD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301E3-7AAA-4C64-8FDD-570DAC18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1E0DF-6267-4781-95D2-9D5DF2F9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B4C1D-A26C-4A7C-BCDC-54292300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4F0C7-FF2D-4425-95E9-C7AB79EF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C7BE-9C6A-4409-8CC4-63B5F900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FE22-3CC2-4D9E-81F8-3C2E6D74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8D12-48F2-4BB9-A8F0-CA823901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E12E3-83D3-4EB1-86EF-112943FC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CF04A-17EB-4631-9992-97B73382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B855-DD15-460D-BDB2-54175B56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A8A-E8B8-4740-B2E2-4497F11A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CBF4C-D021-4AC4-856D-B0473A0A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569D-4F55-4290-8C55-BEBD256B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0571A-28CD-4834-9B33-4B19C9C4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8AFAD-82C0-48DD-B78A-1D86795A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DFC9-84E9-4CEC-8D5B-73DD739C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A3C1B-7F3A-48EC-856A-19DAB75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C16D2-B02B-436E-8B09-91045BCB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9054C-2E6B-4E9D-9D68-D1E59815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7AF05-80B1-415A-8875-78896AE0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FE29D-FE5F-4B4B-B743-2C782BA5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E18-743C-4F5F-A799-9E13D9D1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19588-C251-4D1F-9FAC-3C0D5464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847-E0EF-4358-B24E-43206C32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294-48A7-45DB-A471-51E657C9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C39-BDA3-4729-B017-A47435E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8A30-F33A-4A90-AEEF-406DB7712AE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1AB0-8E40-4D5F-83D5-9258BC03B62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6205-3C46-4652-905B-90BB4D0972D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AB7B-3E44-45EA-8B3C-E1E542BCB72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7738-073E-484D-A720-8B499759765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" descr="C:\Users\INGTERNET\AppData\Local\Microsoft\Windows\Temporary Internet Files\Content.IE5\BYBMW78C\MPj04389190000[1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4"/>
          <p:cNvSpPr/>
          <p:nvPr/>
        </p:nvSpPr>
        <p:spPr>
          <a:xfrm>
            <a:off x="0" y="243828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Viner Hand ITC"/>
              </a:rPr>
              <a:t>   </a:t>
            </a:r>
            <a:r>
              <a:rPr b="1" lang="en-US" sz="6000" spc="-1" strike="noStrike">
                <a:solidFill>
                  <a:srgbClr val="002060"/>
                </a:solidFill>
                <a:latin typeface="Viner Hand ITC"/>
              </a:rPr>
              <a:t>The Courage To Qu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5"/>
          <p:cNvSpPr/>
          <p:nvPr/>
        </p:nvSpPr>
        <p:spPr>
          <a:xfrm>
            <a:off x="1143000" y="4572000"/>
            <a:ext cx="60958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ookman Old Style"/>
              </a:rPr>
              <a:t>Phone: (518)459-25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ookman Old Style"/>
              </a:rPr>
              <a:t>E-mail: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Bookman Old Style"/>
              </a:rPr>
              <a:t>dkeefe@setonhealth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ookman Old Style"/>
              </a:rPr>
              <a:t>Website: www.quitsolutions.org</a:t>
            </a:r>
            <a:r>
              <a:rPr b="1" lang="en-US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B&amp;W Ctr for SC Seton Health"/>
          <p:cNvPicPr/>
          <p:nvPr/>
        </p:nvPicPr>
        <p:blipFill>
          <a:blip r:embed="rId2"/>
          <a:stretch/>
        </p:blipFill>
        <p:spPr>
          <a:xfrm>
            <a:off x="0" y="0"/>
            <a:ext cx="3200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. Mary's Hospital</cp:lastModifiedBy>
  <dcterms:modified xsi:type="dcterms:W3CDTF">2010-06-18T15:20:5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