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57D51-433C-4949-8B41-DC6A136AE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F2A81-C75A-4E2A-90E5-BC7493039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3134D-FB7C-4559-94F6-0C28B5EAC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8E1BF-5BA2-4174-9DF6-3AA797E83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A3E41-61AB-451D-A7CB-B9A53DCD5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A0CD3-539F-4A78-AA84-83C23C8F1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0EBB0-A2BE-4BAF-BFF8-EEF76FADB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839CA-3071-40DF-B123-49C0FC9BE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DA2C1-DACD-489B-A837-FE130FAD4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BBAA1-A949-4205-AF64-2621DFA44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60C63-5B87-46ED-BE31-B2BAE763A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E7013-3A2E-4A50-BFA6-8E5E1D9A8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05A84-7154-4413-A611-8D36888F15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SM122~Smoking-Smile-Face-Posters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27T12:07:18Z</dcterms:created>
  <dc:creator>danny.woodard</dc:creator>
  <dc:description/>
  <dc:language>en-US</dc:language>
  <cp:lastModifiedBy>St. Mary's Hospital</cp:lastModifiedBy>
  <dcterms:modified xsi:type="dcterms:W3CDTF">2010-08-31T18:32:55Z</dcterms:modified>
  <cp:revision>3</cp:revision>
  <dc:subject/>
  <dc:title>Slide 1</dc:title>
</cp:coreProperties>
</file>