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02D-85B6-4424-847A-9F0B6A68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F6A-5EB3-438B-9291-9B8F6DA1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E24-C55B-45B4-B079-F9776FDB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38F-21C9-4BC2-BD1F-5115FCDD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D9B-BD0F-4EAF-A4AB-28C906F6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211-BA05-4BAD-B231-7960B66F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0E7-A6C5-4534-B07A-1FDE0646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5D4-6B24-4AA1-8A9B-75B1F56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143-4DDD-4F11-B197-67754DBE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5F4-9CCD-4E77-A468-CDCDEF4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EFD-A15B-4A0F-8F57-BAE9082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133-D3AF-4414-B8B6-20A4480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CFF4-18C3-4266-8369-1D44A610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17_jpg"/>
          <p:cNvPicPr/>
          <p:nvPr/>
        </p:nvPicPr>
        <p:blipFill>
          <a:blip r:embed="rId1"/>
          <a:stretch/>
        </p:blipFill>
        <p:spPr>
          <a:xfrm>
            <a:off x="0" y="12600"/>
            <a:ext cx="6858000" cy="9118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066680" y="876312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2:46:14Z</dcterms:created>
  <dc:creator>danny.woodard</dc:creator>
  <dc:description/>
  <dc:language>en-US</dc:language>
  <cp:lastModifiedBy>St. Mary's Hospital</cp:lastModifiedBy>
  <dcterms:modified xsi:type="dcterms:W3CDTF">2010-08-31T18:33:02Z</dcterms:modified>
  <cp:revision>3</cp:revision>
  <dc:subject/>
  <dc:title>Slide 1</dc:title>
</cp:coreProperties>
</file>