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7ACC-5191-4403-9EB1-7F6EC8172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349200" indent="-349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e use of counseling approximately doubles long-term abstinence rates when compared to usual care or no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0897-4446-4946-9AB6-ECCA81C88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ACBD-063A-4A71-B240-96B16C93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propion is only non-NRT medication. Recommend XL qd (improves compliance over SR also less insom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 research showed highest quit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T should be offered to al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fer audience to yellow card (NRT dosag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4DB2-A021-443A-8B7B-13F31EE49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Discuss survey results and 22 risk factors at an office vis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25,000 deaths in NYS from tobacco related illness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4C5E-D0E0-4FDD-9B4C-F28FF304E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is so important to address patient’s smoking status at EVERY visit. We are to never give up on our patient’s who have this Chronic Disea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relapse is likely. It reflects the chronic nature of the 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 failure of the caregiver or the pati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0027-0E3C-477D-8D6E-1D3B77434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matter is they want to quit, you need to supplies tools to know how to q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you would for hypertension or hyperlipid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BAD-7185-4359-A238-1689CF02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6AD-3091-45A2-8FA1-75FA2A84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831-5873-49FC-BA60-E3A1A84D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3CE-211F-4620-A74A-DE7D9C45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57D-4F58-4A23-A729-49013049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03C-330F-4D11-AD14-5B067519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0DE-9516-4276-9783-EB4E2AB5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290-A10D-4218-B495-BFFB503B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098-1E8C-4173-97F6-7623F5E1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548-97A7-4CAD-A36B-413CC30D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9F0-FAE8-43C0-B204-9C33549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491-548B-478C-9E3F-4ADD69B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E232-3957-42C8-AEDE-B7E3F95DB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eating Tobacco Depend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alth Care Provider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380988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Center for Smoking Ces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st Practic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unseling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 about tobacco use 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is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to 3 min. brief interven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. Ask, 2. Advise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Document tobacco use status with vital  sig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. ASK the Patie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ed Ques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use tobacco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you used any tobacco in last 30 days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id you last smoke a cigarette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. Advise every Patient  that uses tobacco to sto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need you to know that quitting smoking is the most important action you can take for your health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g and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positive- provide benefits of qu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. Assess Motiv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 patient’s readiness to qu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ontemp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I like to smok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I want to quit, bu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I’m ready to qu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 often are you uncomfort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eing a smoker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f I give you some help, are you willing to try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. Assist thos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Read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qu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a quit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it amount smoked/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 a diary of smoking patt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ze trig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 it up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a survival 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 withdrawal- medic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o handle sl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. Assist thos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ot Read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qu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encour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here to help you whenever you are read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 is what we have to help you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peat the first “4 A’s” at every vis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. Arrange Follow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re follow-up during the first week of a qu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subsequent follow up appointments and discuss progress at all other appointments schedul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them “stay” qu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es the Quitline D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s the patient at their convenience to discuss options for qu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nonymity- counselor and client never meet face to 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free NRT, for eligible smo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18 years, not pregnant &amp; free of certain medical 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xes feedback to clinic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itline Hou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-Thursd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am-9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day-Sund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am-9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ped Message Library:  24hrs/7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 of the Day :        24hrs/ 7days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mpact of Physician Advice to Quit Smo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advi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ise plus follow-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ub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ip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impact of any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uppo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ub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impact of any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y Disturbing Truth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bacco products are the only legal consumer products that are LETHAL when used exactly as the manufacturer int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cation Avail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otine P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otine G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otine Loze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otine Nasal Sp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otine Inha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yban (Buprop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nti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Varenicl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3809880" cy="3044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533520" y="64008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2004 Seton Health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placement Nicotine Fa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RT does not cause canc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ggressive with NRT to evaluate wha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patients are under medic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combination me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gets to achie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eve withdraw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crav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tin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minders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an on going process, not a single act. Goal is progress, not per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judgmental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may not be ready to quit but expect to hear you addressing it. Don’t send the wrong mes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focusing on their behavior, focus on your own interven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State TCP wants same message throughout healthc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99072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no clinical treatment available today that can reduce illness, prevent death, and increase quality of life more than effective tobacco treatment intervention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ing Tobacco Use and 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S. Department of Health and Huma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Address Smoking i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linical Set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518,700 New Yorkers smok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,400 New Yorkers die every year from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ing cause of preventable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that smoke are more likely to quit  if advised to do so by health professio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from Tobacco Free Kids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80880" y="64008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Address Smoking i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linical Sett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Yorkers spend $8.17 billion annually for treating tobacco related illn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5.4 billion on tobacco related Medicaid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idents’ state &amp;federal tax burden from smoking caused government expendi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9 C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bacco Dependence is a Chronic Dise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bacco dependence is not just a risk factor. Demonstrates features of a chronic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Long term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Periods of relapse and r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5-8 attempts over several years)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Requires on-going rather than acu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cotine Addic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Not A Cho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 smokers smoke to maintain constant levels of nicotine and modulate m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is both a behavior and an add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effects the same brain mechanisms as other drugs of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smoke because it is too uncomfortable    not 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erience Tells U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ity of tobacco users can’t quit on their own, but will 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need better information about effective quitting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 to readjust treatment if not wo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st Practice Inter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008 U.S. Clinical Practice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essential that clinicians and health care delivery systems consistently identify and document tobacco use status and treat every tobacco user seen in a health care set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ef tobacco dependence treatment is effe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st Practic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unseling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5 A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20:48:48Z</dcterms:created>
  <dc:creator>PKeigley</dc:creator>
  <dc:description/>
  <dc:language>en-US</dc:language>
  <cp:lastModifiedBy>pkeigley</cp:lastModifiedBy>
  <cp:lastPrinted>2004-07-16T20:05:21Z</cp:lastPrinted>
  <dcterms:modified xsi:type="dcterms:W3CDTF">2012-02-10T18:22:47Z</dcterms:modified>
  <cp:revision>130</cp:revision>
  <dc:subject/>
  <dc:title>Treating Tobacco Dependence</dc:title>
</cp:coreProperties>
</file>